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3D0-E9CC-4F27-8177-FE1B254F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711-EEEE-463D-8086-86B37E28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E2B-5920-447F-8968-FA0C6DF2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617-2AFB-4C6F-8E91-45174F2C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54DD-0D50-42DC-AAEC-0F893FB6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2D8D-0460-4BC8-AAA1-3A074C66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A6DE-4D82-4A6F-BA03-4C41B8A3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4186-FCD1-4CF3-8D70-51AD11C5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57B8-F2BB-41F3-A596-F85144D0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0C56-A1BC-4F06-ACB6-B2AD2B03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E09A-4DCB-4DC1-A343-1703DCD3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CA0-29F3-4323-BA61-541352D8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8251-40BF-489B-91F3-A5BFF09A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6381-F117-4B0F-A694-BC58D532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B187-C4A6-4A2F-B9D6-E2D62169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6C22-8523-4131-94C7-F38A84F5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B2D8-32C5-4310-804E-D2A142F1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61B-5F19-4A1A-9F23-73D48307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C31-AA09-4AF7-8729-B066E311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D81-16EB-4C0E-976B-0006E482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127-C376-4BB5-B002-B9ABBA1B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79D-262F-4BDF-8C9E-210AF1F3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212-D920-44B2-A563-12387CFA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956-2C8B-432B-A5B3-2490402E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A418-D7E0-4DE2-9977-7261222E71C2}" type="slidenum">
              <a:rPr b="0" lang="en-US" sz="14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7AF4-BA1F-44A7-A24C-A42730E216F9}" type="slidenum">
              <a:rPr b="0" lang="en-US" sz="14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676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Verdana"/>
              </a:rPr>
              <a:t>Main individuals from 1918-1924</a:t>
            </a:r>
            <a:endParaRPr b="0" lang="en-US" sz="48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257800" y="3352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ukhari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3352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ld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Leon Trotsky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4267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05920" cy="761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-Leon trotsky was born in Yanovka, Russia, on 7th November, 1879. 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295280"/>
            <a:ext cx="8305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-Trotsky arrived back in Russia from America, in may 1917 and Alexander Kerensky, then realized that Trotsky was a major threat to his government and had him arrested.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74320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-After the october revolution which Boleviks took control of Russia, Vladimir Lenin appointed Trotsky as the people's commissar for foreign affair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-The Red Army had to be established quickly as it was needed to fight the White Army during the Civil War.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903920"/>
            <a:ext cx="80010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- An outstanding military commander, Trotsky led his five million man army to victory and in doing so ensured the survival of the Bolshevik government.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7621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rotsky's main hope of gaining power was for Lenin's last testament to be published. But Lenin died  before he could take action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2900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e on, boys!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Stalin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-Joseph Stalin, was born in Gori, Georgia on 21st December, 1879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7524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-In November, 1917, Lenin rewarded Stalin for his support of the October Revolution by appointing him Commissar of Nationalities.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8954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-Stalin supported Lenin's policy. His view was that as long as there was only a one party state, the government could allow the introduction of small-scale private enterprise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57200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-At the Party Conference in April, 1922, Lenin suggested that a new post of General Secretary should be created. Lenin's choice for the post was Stalin, who in the past had always loyally supported his policie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038480" y="1143000"/>
            <a:ext cx="4724640" cy="4675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talin and his wif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58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ikolai Ivanovitch Bukharin was born in Moscow on September 27, 1888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5994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106668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is parents were very cultured and devoted lots of time to the boy’s education, and as a result Bukharin became the most intellectual and broadly educated of the Bolshevik political leaders.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733920"/>
            <a:ext cx="510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e completed his education and familiarized himself with western languages and theoretical literature. By 1917 he was able to speak and read German, French, and English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23623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 the early 1920s, Bukharin became the leader of NEP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8088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lthough Bukharin and Lenin were often in disagreement over how Marx’s socialist system was to be put into practice, among many other things, the two began a strong relationship and had respect for each other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4:43:29Z</dcterms:created>
  <dc:creator>apple ,</dc:creator>
  <dc:description/>
  <dc:language>en-US</dc:language>
  <cp:lastModifiedBy>apple ,</cp:lastModifiedBy>
  <dcterms:modified xsi:type="dcterms:W3CDTF">2007-11-13T15:25:34Z</dcterms:modified>
  <cp:revision>3</cp:revision>
  <dc:subject/>
  <dc:title>Main individuals from 1918-1924</dc:title>
</cp:coreProperties>
</file>